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4.jpeg" ContentType="image/jpeg"/>
  <Override PartName="/ppt/media/image31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12.jpeg" ContentType="image/jpeg"/>
  <Override PartName="/ppt/media/image6.wmf" ContentType="image/x-wmf"/>
  <Override PartName="/ppt/media/image7.wmf" ContentType="image/x-wmf"/>
  <Override PartName="/ppt/media/image22.wmf" ContentType="image/x-wmf"/>
  <Override PartName="/ppt/media/image20.jpeg" ContentType="image/jpeg"/>
  <Override PartName="/ppt/media/image11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9.wmf" ContentType="image/x-wmf"/>
  <Override PartName="/ppt/media/image32.jpeg" ContentType="image/jpeg"/>
  <Override PartName="/ppt/media/image18.wmf" ContentType="image/x-wmf"/>
  <Override PartName="/ppt/media/image2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wmf" ContentType="image/x-wmf"/>
  <Override PartName="/ppt/media/image15.jpeg" ContentType="image/jpeg"/>
  <Override PartName="/ppt/media/image26.wmf" ContentType="image/x-wmf"/>
  <Override PartName="/ppt/media/image5.wmf" ContentType="image/x-wmf"/>
  <Override PartName="/ppt/media/image16.jpeg" ContentType="image/jpeg"/>
  <Override PartName="/ppt/media/image17.jpeg" ContentType="image/jpeg"/>
  <Override PartName="/ppt/media/image19.wmf" ContentType="image/x-wmf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E5BC3-1BA8-466F-9E34-9C0F3B5A70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2280" y="416664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11AAF-8724-4751-86D9-23B888C7C5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256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CB54B-754E-4338-A892-D3F36F0A51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150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78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22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150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78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42915-F54A-4590-B44B-71EFE95D08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B421A-8B52-4CE4-815C-A7B82AB1FC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75615-B488-40C0-8790-F954794A84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E2A3B-D7D5-4769-92E9-901A24E441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0DBF4-B283-4B75-A69D-61F75DD255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8080" y="151920"/>
            <a:ext cx="3657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81415-4500-4A20-BB00-1D62E5AFCF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D2E47-E928-4FC4-89AC-946C56A15D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256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77892-075A-46A5-AD07-54479F7475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45B5C-819E-45B3-9FAE-AC1D3999FD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1"/>
          <p:cNvSpPr/>
          <p:nvPr/>
        </p:nvSpPr>
        <p:spPr>
          <a:xfrm>
            <a:off x="0" y="0"/>
            <a:ext cx="1371600" cy="1676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83" descr="other logo for powerpoint"/>
          <p:cNvPicPr/>
          <p:nvPr/>
        </p:nvPicPr>
        <p:blipFill>
          <a:blip r:embed="rId2"/>
          <a:stretch/>
        </p:blipFill>
        <p:spPr>
          <a:xfrm>
            <a:off x="1219320" y="2819520"/>
            <a:ext cx="2120760" cy="289548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6"/>
          <p:cNvSpPr/>
          <p:nvPr/>
        </p:nvSpPr>
        <p:spPr>
          <a:xfrm>
            <a:off x="1371600" y="0"/>
            <a:ext cx="4114800" cy="167652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228240" y="61718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9AAA-60AC-4318-B1BC-BCDEBAAB3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Rectangle 13"/>
          <p:cNvSpPr/>
          <p:nvPr/>
        </p:nvSpPr>
        <p:spPr>
          <a:xfrm>
            <a:off x="1371600" y="1600200"/>
            <a:ext cx="4114800" cy="304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Rectangle 93"/>
          <p:cNvSpPr/>
          <p:nvPr/>
        </p:nvSpPr>
        <p:spPr>
          <a:xfrm>
            <a:off x="0" y="1600200"/>
            <a:ext cx="13716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94" descr="oxford logo4"/>
          <p:cNvPicPr/>
          <p:nvPr/>
        </p:nvPicPr>
        <p:blipFill>
          <a:blip r:embed="rId3"/>
          <a:stretch/>
        </p:blipFill>
        <p:spPr>
          <a:xfrm>
            <a:off x="103320" y="152280"/>
            <a:ext cx="506160" cy="1295640"/>
          </a:xfrm>
          <a:prstGeom prst="rect">
            <a:avLst/>
          </a:prstGeom>
          <a:ln w="0">
            <a:noFill/>
          </a:ln>
        </p:spPr>
      </p:pic>
      <p:pic>
        <p:nvPicPr>
          <p:cNvPr id="9" name="Picture 95" descr="book cover2"/>
          <p:cNvPicPr/>
          <p:nvPr/>
        </p:nvPicPr>
        <p:blipFill>
          <a:blip r:embed="rId4"/>
          <a:stretch/>
        </p:blipFill>
        <p:spPr>
          <a:xfrm>
            <a:off x="914400" y="2286000"/>
            <a:ext cx="2797200" cy="36939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96"/>
          <p:cNvSpPr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Calibri"/>
              </a:rPr>
              <a:t>Chapter #12: </a:t>
            </a:r>
            <a:r>
              <a:rPr b="0" lang="en-US" sz="4800" spc="-1" strike="noStrike">
                <a:solidFill>
                  <a:srgbClr val="3333ff"/>
                </a:solidFill>
                <a:latin typeface="Calibri"/>
              </a:rPr>
              <a:t>Operational-Amplifier Circuits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38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croelectronic Circui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Sedra and Sm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xford Publi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2.1.1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nput Common-Mode Range and Output Swing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se12F02"/>
          <p:cNvPicPr/>
          <p:nvPr/>
        </p:nvPicPr>
        <p:blipFill>
          <a:blip r:embed="rId1"/>
          <a:stretch/>
        </p:blipFill>
        <p:spPr>
          <a:xfrm>
            <a:off x="228600" y="2220840"/>
            <a:ext cx="8610480" cy="25034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228600" y="62326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2.2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mall-signal equivalent circuit for the op amp in Fig. 12.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2.1.4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Common-Mode Rejection Ratio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MRR of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wo-stage amplifi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determined by first s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MRR = [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|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[2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SS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utput resist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bias sourc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MRR is of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rder of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g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m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hig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roportional to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MRR is increased if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ong channe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u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1.5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Frequency Respons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Object 4"/>
          <p:cNvGraphicFramePr/>
          <p:nvPr/>
        </p:nvGraphicFramePr>
        <p:xfrm>
          <a:off x="349200" y="2209680"/>
          <a:ext cx="5365800" cy="36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2209680"/>
                    <a:ext cx="5365800" cy="36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6"/>
          <p:cNvGraphicFramePr/>
          <p:nvPr/>
        </p:nvGraphicFramePr>
        <p:xfrm>
          <a:off x="5883120" y="2666880"/>
          <a:ext cx="2651400" cy="271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3120" y="2666880"/>
                    <a:ext cx="2651400" cy="27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se12F03"/>
          <p:cNvPicPr/>
          <p:nvPr/>
        </p:nvPicPr>
        <p:blipFill>
          <a:blip r:embed="rId1"/>
          <a:stretch/>
        </p:blipFill>
        <p:spPr>
          <a:xfrm>
            <a:off x="380880" y="838080"/>
            <a:ext cx="8305920" cy="4572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12"/>
          <p:cNvPicPr/>
          <p:nvPr/>
        </p:nvPicPr>
        <p:blipFill>
          <a:blip r:embed="rId2"/>
          <a:stretch/>
        </p:blipFill>
        <p:spPr>
          <a:xfrm>
            <a:off x="228600" y="5942160"/>
            <a:ext cx="8610480" cy="687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se12F04"/>
          <p:cNvPicPr/>
          <p:nvPr/>
        </p:nvPicPr>
        <p:blipFill>
          <a:blip r:embed="rId1"/>
          <a:stretch/>
        </p:blipFill>
        <p:spPr>
          <a:xfrm>
            <a:off x="228600" y="190440"/>
            <a:ext cx="7086600" cy="64389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4343400" y="228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2.4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ical frequency response of the two-stage op am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1.5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Frequency Respons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1488960" y="2209680"/>
          <a:ext cx="6207120" cy="37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8960" y="2209680"/>
                    <a:ext cx="6207120" cy="37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228600" y="59436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2.5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mall-signal equivalent circuit of the op amp in Fig. 12.1 with a resistanc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cluded in series with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se12F05"/>
          <p:cNvPicPr/>
          <p:nvPr/>
        </p:nvPicPr>
        <p:blipFill>
          <a:blip r:embed="rId1"/>
          <a:stretch/>
        </p:blipFill>
        <p:spPr>
          <a:xfrm>
            <a:off x="380880" y="2233440"/>
            <a:ext cx="8305920" cy="241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1981080"/>
            <a:ext cx="464832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1.6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lew Rat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se12F06"/>
          <p:cNvPicPr/>
          <p:nvPr/>
        </p:nvPicPr>
        <p:blipFill>
          <a:blip r:embed="rId1"/>
          <a:stretch/>
        </p:blipFill>
        <p:spPr>
          <a:xfrm>
            <a:off x="380880" y="2209680"/>
            <a:ext cx="8305920" cy="31975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228600" y="563868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2.6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unity-gain follower with a large step input. Since the output voltage cannot change immediately, a large differential voltage appears between the op-amp input termina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1981080"/>
            <a:ext cx="464832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1.6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lew Rat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228600" y="60040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2.7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el of the two-stage CMOS op-amp of Fig. 12.1 when a large differential voltage is appli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4" descr="se12F07"/>
          <p:cNvPicPr/>
          <p:nvPr/>
        </p:nvPicPr>
        <p:blipFill>
          <a:blip r:embed="rId1"/>
          <a:stretch/>
        </p:blipFill>
        <p:spPr>
          <a:xfrm>
            <a:off x="1676520" y="1981080"/>
            <a:ext cx="5790960" cy="3932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lationship Between SR an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e relationship exists betwee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nity-gain bandwidth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f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 and slew r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ations (12.31) through (12.40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SR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= 2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f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t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lew rate is determined by the overdrive volta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 which first-stage transistors are opera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a given bias curren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 larger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OV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is obtained if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ar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-channel de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THIS CHAPTER YOU WILL LEA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esign and analysis of the two basic CMOS op-amp architectures: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 two-stage circuit and the single-stage, folded cascode circu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mplete circuit of an analog IC classic: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 741 op-amp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Though 40 years old, the 741 circuit includes so many interesting and useful design techniques that its study is still a mu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cations of negative feedback within op-amp circuits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chieve bias stability and increased CMR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1.7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ower Supply Rejection Ratio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mixed-signal circu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IC chip which combines analog and digital de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itching activity in digital portion results i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ripple within power suppl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ripple ma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ffect op amp out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power-supply rejection rati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the ability of a circuit to eliminate any ripple in the circuit power suppl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SRR is generally improved through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tilization of capaci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1.7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ower Supply Rejection Ratio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1143000" y="914400"/>
          <a:ext cx="6800760" cy="50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800760" cy="50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1.8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Design Trade-Off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erformance of the two-stage CMOS amplifier are primarily determined b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wo design paramet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ength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channel of each MOSF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verdrive voltage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OV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 which transistor is opera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transition frequenc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– is defined below.  It determined high-frequency ope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Object 4"/>
          <p:cNvGraphicFramePr/>
          <p:nvPr/>
        </p:nvGraphicFramePr>
        <p:xfrm>
          <a:off x="2019240" y="5486400"/>
          <a:ext cx="4991040" cy="7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9240" y="5486400"/>
                    <a:ext cx="499104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Folded-Cascode CMOS Op Amp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se12F08"/>
          <p:cNvPicPr/>
          <p:nvPr/>
        </p:nvPicPr>
        <p:blipFill>
          <a:blip r:embed="rId1"/>
          <a:stretch/>
        </p:blipFill>
        <p:spPr>
          <a:xfrm>
            <a:off x="76320" y="1978200"/>
            <a:ext cx="6553080" cy="47703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5"/>
          <p:cNvSpPr/>
          <p:nvPr/>
        </p:nvSpPr>
        <p:spPr>
          <a:xfrm>
            <a:off x="6553080" y="3657600"/>
            <a:ext cx="236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2.8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 of the folded-cascode CMOS op am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7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Circui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4" descr="se12F09"/>
          <p:cNvPicPr/>
          <p:nvPr/>
        </p:nvPicPr>
        <p:blipFill>
          <a:blip r:embed="rId1"/>
          <a:stretch/>
        </p:blipFill>
        <p:spPr>
          <a:xfrm>
            <a:off x="844560" y="228600"/>
            <a:ext cx="7461360" cy="568944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5"/>
          <p:cNvSpPr/>
          <p:nvPr/>
        </p:nvSpPr>
        <p:spPr>
          <a:xfrm>
            <a:off x="152280" y="600408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2.9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more complete circuit for the folded-cascode CMOS amplifier of Fig. 12.8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2.2.2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nput Common-Mode Range and Output Swing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4" name="Object 4"/>
          <p:cNvGraphicFramePr/>
          <p:nvPr/>
        </p:nvGraphicFramePr>
        <p:xfrm>
          <a:off x="457200" y="2343240"/>
          <a:ext cx="8182080" cy="34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43240"/>
                    <a:ext cx="8182080" cy="34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2.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Voltage Gai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0" y="2057400"/>
            <a:ext cx="449568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1295280" y="2154240"/>
          <a:ext cx="6608880" cy="44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154240"/>
                    <a:ext cx="6608880" cy="44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7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Circui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152280" y="600408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2.10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mall-signal equivalent circuit of the folded-cascode CMOS amplifier. Note that this circuit is in effect an operational transconductance amplifier (OTA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4" descr="se12F10"/>
          <p:cNvPicPr/>
          <p:nvPr/>
        </p:nvPicPr>
        <p:blipFill>
          <a:blip r:embed="rId1"/>
          <a:stretch/>
        </p:blipFill>
        <p:spPr>
          <a:xfrm>
            <a:off x="228600" y="1569960"/>
            <a:ext cx="8610480" cy="368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741 Op-Amp Circui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ions 12.3. through 12.6 focus on 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741 op-amp circu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12.13. provides a circuit schemat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esign uses many transistors, few resis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41 require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wo power suppl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E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15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7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Circui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52280" y="5470560"/>
            <a:ext cx="883944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gure 12.13: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741 op-amp circuit: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1,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2, and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5 generate a reference bias current;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REF.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0,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9, and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8 bias the input stage, which is composed of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 to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7. The second gain stage is composed of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6 and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7 with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3B acting as active load. The class AB output stage is formed by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4 and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20 with biasing devices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3A,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8, and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9, and an input buffer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23. Transistors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5,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21,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24, and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22 serve to protect the amplifier against output short circuits and are normally cut off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4" descr="se12F13"/>
          <p:cNvPicPr/>
          <p:nvPr/>
        </p:nvPicPr>
        <p:blipFill>
          <a:blip r:embed="rId1"/>
          <a:stretch/>
        </p:blipFill>
        <p:spPr>
          <a:xfrm>
            <a:off x="457200" y="192240"/>
            <a:ext cx="8229600" cy="506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THIS CHAPTER YOU WILL LEA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reak a large analog circuit into its recognizable block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o be able to make the analysis amendable to a pencil-and-paper approach – which is the best way to learn desig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of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odern techniques employed in the desig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low-voltage single-supply BJT op am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importantly, how the differen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opics we learned about in the preceding chapters come togeth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the design of the most important analog IC – the op am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3.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Input Stag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41 consists of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ree-stag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pu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ial Stage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roug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Emitter Follower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Differential Common-Bas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oad Circuit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iasing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mediate Single-Ende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igh-Gai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utput-Buffer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ge (other transisto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3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Second Stag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sts of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16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17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 and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13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itter Follower: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on-Emitter: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ad: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3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utp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second stage is taken at collector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7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apacitor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connected in feedback path of second st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quency compensation using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iller Techniq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3.5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Output Stag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ow output resist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le to supply relativel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arge load curr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inimal pow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issip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sts of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14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20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mplementar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istor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8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9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fed b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urrent sourc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13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bias transistor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3.6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Device Parameter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p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14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200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125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np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14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50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50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13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13B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.25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1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.75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1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devices are non-standar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14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20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will be assumed to have area three tim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standard device – for increased load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DC Analysis of the 741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0" y="2057400"/>
            <a:ext cx="449568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2390760" y="2133720"/>
          <a:ext cx="431496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0760" y="2133720"/>
                    <a:ext cx="431496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7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Circui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52280" y="6308640"/>
            <a:ext cx="88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2.14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idlar current source that biases the input stag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4" descr="se12F14"/>
          <p:cNvPicPr/>
          <p:nvPr/>
        </p:nvPicPr>
        <p:blipFill>
          <a:blip r:embed="rId1"/>
          <a:stretch/>
        </p:blipFill>
        <p:spPr>
          <a:xfrm>
            <a:off x="2544840" y="533520"/>
            <a:ext cx="4008240" cy="533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7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Circui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152280" y="6308640"/>
            <a:ext cx="88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2.15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dc analysis of the 741 input stag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4" descr="se12F15"/>
          <p:cNvPicPr/>
          <p:nvPr/>
        </p:nvPicPr>
        <p:blipFill>
          <a:blip r:embed="rId1"/>
          <a:stretch/>
        </p:blipFill>
        <p:spPr>
          <a:xfrm>
            <a:off x="1911240" y="228600"/>
            <a:ext cx="5251680" cy="548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7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Circui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se12F16"/>
          <p:cNvPicPr/>
          <p:nvPr/>
        </p:nvPicPr>
        <p:blipFill>
          <a:blip r:embed="rId1"/>
          <a:stretch/>
        </p:blipFill>
        <p:spPr>
          <a:xfrm>
            <a:off x="1219320" y="380880"/>
            <a:ext cx="6629400" cy="5427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5"/>
          <p:cNvSpPr/>
          <p:nvPr/>
        </p:nvSpPr>
        <p:spPr>
          <a:xfrm>
            <a:off x="228600" y="62326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2.16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dc analysis of the 741 input stage, continu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DC Analysis of the 741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0" y="2057400"/>
            <a:ext cx="449568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6" descr=""/>
          <p:cNvPicPr/>
          <p:nvPr/>
        </p:nvPicPr>
        <p:blipFill>
          <a:blip r:embed="rId1"/>
          <a:stretch/>
        </p:blipFill>
        <p:spPr>
          <a:xfrm rot="21540000">
            <a:off x="0" y="2666880"/>
            <a:ext cx="9067680" cy="335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5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mall Signal Analysis of 741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may use small-signal analysis (as in previous chapters)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nalyze linear behavior of the 74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s 12.18 – 12.21 describe this proces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or input st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s 12.25 – 12.27 describe this proces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or gain st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s 12.28 – 12.30 describe this proces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or output st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Two Stage CMOS Op Amp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wo-stage op am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shown in Figure 12.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was studied in Section 8.6.1 as example of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ulti-stage CMOS amplif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se12F01"/>
          <p:cNvPicPr/>
          <p:nvPr/>
        </p:nvPicPr>
        <p:blipFill>
          <a:blip r:embed="rId1"/>
          <a:stretch/>
        </p:blipFill>
        <p:spPr>
          <a:xfrm>
            <a:off x="4724280" y="3276720"/>
            <a:ext cx="4114800" cy="33526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228600" y="441972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2.1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basic two-stage CMOS op-amp configur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5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mall Signal Analysis of 741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0" y="2057400"/>
            <a:ext cx="449568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4" descr="se12F21"/>
          <p:cNvPicPr/>
          <p:nvPr/>
        </p:nvPicPr>
        <p:blipFill>
          <a:blip r:embed="rId1"/>
          <a:stretch/>
        </p:blipFill>
        <p:spPr>
          <a:xfrm>
            <a:off x="228600" y="2666880"/>
            <a:ext cx="8686800" cy="285588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5"/>
          <p:cNvSpPr/>
          <p:nvPr/>
        </p:nvSpPr>
        <p:spPr>
          <a:xfrm>
            <a:off x="228600" y="59436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2.21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mall-signal equivalent circuit for the input stage of the 741 op am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5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mall Signal Analysis of 741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0" y="2057400"/>
            <a:ext cx="449568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4" descr="se12F25"/>
          <p:cNvPicPr/>
          <p:nvPr/>
        </p:nvPicPr>
        <p:blipFill>
          <a:blip r:embed="rId1"/>
          <a:stretch/>
        </p:blipFill>
        <p:spPr>
          <a:xfrm>
            <a:off x="228600" y="3179880"/>
            <a:ext cx="8686800" cy="230652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5"/>
          <p:cNvSpPr/>
          <p:nvPr/>
        </p:nvSpPr>
        <p:spPr>
          <a:xfrm>
            <a:off x="228600" y="623268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2.25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mall-signal equivalent-circuit model of the second stag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CMOS op-amps are designed to operate as part of a VLSI circuit and thus required to drive only small capacitive loads.  Therefore, most do not have a low-output-resistance st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basically two approaches to  the design of CMOS op-amps: a two-stage configuration and a single-stage topology using the folded-cascode circu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two-stage CMOS op-amp, approximately equal gains are realized in the two stag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hreshold mismatch together with the low transconductance of the input stage result in a larger input offset voltage for the CMOS op-amps than for bipolar un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ller compensation is employed in the two-stage CMOS op-amp, but a series resistor is required to place the transmission zero at either s = infinity or on the negative real ax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MOS op-amps have better slew rates (than alt’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of the cascode configuration increases the gain of a CMOS amplifier stage by about two orders of magnitude, thus making possible a single-stage op-am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ominant pole of the folded-cascode op-amp is determined by the total capacitance at the output CL.  Increasing CL improves the phase margin at the expense of reducing bandwid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using two complementary input differential pairs in parallel, the common-mode range may be extend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output voltage swing of the folded-cascode op-amp may be extended by utilizing a wide-swing current mirror in place of the cascode mirr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ternal circuit of the 741 op-amp embodies many of the design techniques employed in bipolar analog integrated circu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741 circuit consists of an input differential stage, a high-gain single-ended second stage, and a class AB output stage.  It is the basis for many other de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obtain low input offset voltage and current, and high CMRR, the 741 input stage is designed to be perfectly balanced.  The CMRR is increased by common-mode feedback, which also stabilizes the dc operating poi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obtain high input resistance and low input bias current, the input stage of the 741 is operated as a very low current lev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se of Miller Frequency compensation in the 741 circuit enables locating the dominant pole at a very low frequency, while utilizing a relatively small compensating capacit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-stage op-amps may be modeled as a transconductance amplifier feeding an ideal integrator wit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s the integrating capaci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lew rate of a two-stage op-amp is determined by the first-stage bias current and frequency-compensation capaci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le the 741 and similar op-amps nominally operate from 15V power supplies, modern BJT op-amps typically utilize a single ground-referenced supply of only 2 or 3V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1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Circui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Stag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ial Pair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ased by current sourc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d by a reference curren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R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rent Mirror Load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equency Compen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ltage Gai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20V/V to 60V/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sonabl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mmon-Mode Rejection Rati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CMR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2.1.1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nput Common-Mode Range and Output Swing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322200" y="2243160"/>
          <a:ext cx="8364600" cy="347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2243160"/>
                    <a:ext cx="8364600" cy="34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1.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Voltage Gai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implified equivalent circuit mode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small-signal operation of CMOS amplif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12.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put resist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practically infinite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irst-stage transconduct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is equal to values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c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operated at equal bias currents (I/2) and equal overdrive voltages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quation (12.7) appl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2.1.1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nput Common-Mode Range and Output Swing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Object 3"/>
          <p:cNvGraphicFramePr/>
          <p:nvPr/>
        </p:nvGraphicFramePr>
        <p:xfrm>
          <a:off x="914400" y="2016000"/>
          <a:ext cx="7277040" cy="438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16000"/>
                    <a:ext cx="7277040" cy="43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2.1.1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nput Common-Mode Range and Output Swing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Object 3"/>
          <p:cNvGraphicFramePr/>
          <p:nvPr/>
        </p:nvGraphicFramePr>
        <p:xfrm>
          <a:off x="460440" y="576360"/>
          <a:ext cx="7997760" cy="57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576360"/>
                    <a:ext cx="7997760" cy="57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2:06:37Z</dcterms:created>
  <dc:creator>deese</dc:creator>
  <dc:description/>
  <dc:language>en-US</dc:language>
  <cp:lastModifiedBy>Jeffrey N. Denenberg</cp:lastModifiedBy>
  <dcterms:modified xsi:type="dcterms:W3CDTF">2013-04-23T16:07:09Z</dcterms:modified>
  <cp:revision>412</cp:revision>
  <dc:subject/>
  <dc:title>Slide 1</dc:title>
</cp:coreProperties>
</file>